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23.jpeg" ContentType="image/jpeg"/>
  <Override PartName="/ppt/media/image18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4.jpeg" ContentType="image/jpeg"/>
  <Override PartName="/ppt/media/image1.png" ContentType="image/png"/>
  <Override PartName="/ppt/media/image24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47BB0-73A0-40AC-9EFD-8E66B674DFF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1044C-868C-4932-B7ED-17744E9926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37EE4-AF03-4FC5-B4F7-BE173D259ED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C897C-314B-42C5-B95A-45051D4E192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ECA0F-B259-4EB1-B4A3-38C07FE7A47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58695-363A-4726-9A1D-E2A47F7AB04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B07AC-C029-4813-A3C6-64A84E58BF0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A94DF-5758-4FD4-8FA7-656040D59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3F20A-BAAC-4956-A6FA-69BB1007A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34529-0FB6-445A-96BE-3469830EF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9CD6A-E472-476B-B747-C7AEE349D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63A68-7E30-465F-BFB1-070232F9C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42D96-F79D-429A-81D3-E0C36AEFD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DAEFB-09AE-45BA-8376-86294C17B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A0608-F018-4627-B7C3-5FFB227F0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BE691-DF08-4AC5-8F94-3F1589B4E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DC23E-3245-4ECC-BFF1-6D1A7B307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312D6-194B-46A2-8613-FF9DC6220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DCF1F-C133-4774-BD4E-E52EA5DC4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62B94-8B4D-4A9D-AF73-7AB331A19D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1" lang="en-US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Любимые сказки для детей первой младшей группы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2" descr=""/>
          <p:cNvPicPr/>
          <p:nvPr/>
        </p:nvPicPr>
        <p:blipFill>
          <a:blip r:embed="rId2"/>
          <a:stretch/>
        </p:blipFill>
        <p:spPr>
          <a:xfrm rot="683400">
            <a:off x="2975040" y="2253960"/>
            <a:ext cx="4468680" cy="42307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«Не золотое , а простое»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2" descr=""/>
          <p:cNvPicPr/>
          <p:nvPr/>
        </p:nvPicPr>
        <p:blipFill>
          <a:blip r:embed="rId2"/>
          <a:stretch/>
        </p:blipFill>
        <p:spPr>
          <a:xfrm>
            <a:off x="2000160" y="781200"/>
            <a:ext cx="4762440" cy="58165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Конец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2" descr=""/>
          <p:cNvPicPr/>
          <p:nvPr/>
        </p:nvPicPr>
        <p:blipFill>
          <a:blip r:embed="rId2"/>
          <a:srcRect l="0" t="21245" r="0" b="21245"/>
          <a:stretch/>
        </p:blipFill>
        <p:spPr>
          <a:xfrm rot="850200">
            <a:off x="1992240" y="824040"/>
            <a:ext cx="5486400" cy="41148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1371240" y="1628280"/>
            <a:ext cx="6945480" cy="3729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2000"/>
          </a:bodyPr>
          <a:p>
            <a:pPr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На тарелочке лежал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Как остыл и убежал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Встретил он зверей в лесу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На беду свою — лису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Ей попался на зубок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Круглый, вкусный .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Times New Roman"/>
              </a:rPr>
              <a:t>                                     </a:t>
            </a:r>
            <a:r>
              <a:rPr b="0" lang="en-US" sz="3200" spc="-1" strike="noStrike">
                <a:solidFill>
                  <a:srgbClr val="1f497d"/>
                </a:solidFill>
                <a:latin typeface="Times New Roman"/>
              </a:rPr>
              <a:t>(Колобок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14360" y="5143680"/>
            <a:ext cx="513540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               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Колобок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428920" y="571500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Русская народная сказк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2" descr=""/>
          <p:cNvPicPr/>
          <p:nvPr/>
        </p:nvPicPr>
        <p:blipFill>
          <a:blip r:embed="rId2"/>
          <a:srcRect l="0" t="20475" r="0" b="20475"/>
          <a:stretch/>
        </p:blipFill>
        <p:spPr>
          <a:xfrm rot="673200">
            <a:off x="2192400" y="488520"/>
            <a:ext cx="5486400" cy="47149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"/>
          <p:cNvPicPr/>
          <p:nvPr/>
        </p:nvPicPr>
        <p:blipFill>
          <a:blip r:embed="rId2"/>
          <a:stretch/>
        </p:blipFill>
        <p:spPr>
          <a:xfrm>
            <a:off x="4140360" y="692280"/>
            <a:ext cx="4762440" cy="5476680"/>
          </a:xfrm>
          <a:prstGeom prst="rect">
            <a:avLst/>
          </a:prstGeom>
          <a:ln w="0">
            <a:noFill/>
          </a:ln>
        </p:spPr>
      </p:pic>
      <p:sp>
        <p:nvSpPr>
          <p:cNvPr id="77" name="Прямоугольник 3"/>
          <p:cNvSpPr/>
          <p:nvPr/>
        </p:nvSpPr>
        <p:spPr>
          <a:xfrm>
            <a:off x="0" y="260280"/>
            <a:ext cx="457200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Жили-были старик со старухой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Вот и говорит старик старухе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—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Поди-ка, старуха, по коробу поскреби, по сусеку помети, не наскребешь ли муки на колобок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Взяла старуха крылышко, по коробу поскребла, по сусеку помела и наскребла муки горсти дв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"/>
          <p:cNvPicPr/>
          <p:nvPr/>
        </p:nvPicPr>
        <p:blipFill>
          <a:blip r:embed="rId2"/>
          <a:stretch/>
        </p:blipFill>
        <p:spPr>
          <a:xfrm>
            <a:off x="4071960" y="1143000"/>
            <a:ext cx="4762440" cy="5429160"/>
          </a:xfrm>
          <a:prstGeom prst="rect">
            <a:avLst/>
          </a:prstGeom>
          <a:ln w="0">
            <a:noFill/>
          </a:ln>
        </p:spPr>
      </p:pic>
      <p:sp>
        <p:nvSpPr>
          <p:cNvPr id="79" name="Прямоугольник 3"/>
          <p:cNvSpPr/>
          <p:nvPr/>
        </p:nvSpPr>
        <p:spPr>
          <a:xfrm>
            <a:off x="0" y="214200"/>
            <a:ext cx="4572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Замесила муку на сметане, состряпала колобок, изжарила в масле и на окошко студить положил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"/>
          <p:cNvPicPr/>
          <p:nvPr/>
        </p:nvPicPr>
        <p:blipFill>
          <a:blip r:embed="rId2"/>
          <a:stretch/>
        </p:blipFill>
        <p:spPr>
          <a:xfrm>
            <a:off x="3714840" y="285840"/>
            <a:ext cx="4762440" cy="6124320"/>
          </a:xfrm>
          <a:prstGeom prst="rect">
            <a:avLst/>
          </a:prstGeom>
          <a:ln w="0">
            <a:noFill/>
          </a:ln>
        </p:spPr>
      </p:pic>
      <p:sp>
        <p:nvSpPr>
          <p:cNvPr id="81" name="Прямоугольник 2"/>
          <p:cNvSpPr/>
          <p:nvPr/>
        </p:nvSpPr>
        <p:spPr>
          <a:xfrm>
            <a:off x="0" y="214200"/>
            <a:ext cx="45720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олобок полежал, полежал, взял да и покатился — с окна на лавку, с лавки на пол, пó полу к двери, прыг через порог — да в сени, из сеней на крыльцо, с крыльца на двор, со двора за ворота, дальше и дальш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"/>
          <p:cNvPicPr/>
          <p:nvPr/>
        </p:nvPicPr>
        <p:blipFill>
          <a:blip r:embed="rId2"/>
          <a:stretch/>
        </p:blipFill>
        <p:spPr>
          <a:xfrm>
            <a:off x="4071960" y="214200"/>
            <a:ext cx="4762440" cy="594360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1"/>
          <p:cNvSpPr/>
          <p:nvPr/>
        </p:nvSpPr>
        <p:spPr>
          <a:xfrm>
            <a:off x="0" y="661680"/>
            <a:ext cx="885816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тится Колобок по дороге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встречу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му Заяц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обок, Колобок, я тебя съем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ешь меня, Заяц, я тебе песенку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ю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Колобок, Колобок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по коробу скребен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сусеку метен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сметане мешон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 в масле пряжон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окошке стужон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от дедушки ушел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от бабушки ушел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 тебя, зайца, подавно уйду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покатился по дороге — только Заяц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го и видел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"/>
          <p:cNvPicPr/>
          <p:nvPr/>
        </p:nvPicPr>
        <p:blipFill>
          <a:blip r:embed="rId2"/>
          <a:stretch/>
        </p:blipFill>
        <p:spPr>
          <a:xfrm>
            <a:off x="4000680" y="500040"/>
            <a:ext cx="4762440" cy="604836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1"/>
          <p:cNvSpPr/>
          <p:nvPr/>
        </p:nvSpPr>
        <p:spPr>
          <a:xfrm>
            <a:off x="0" y="258480"/>
            <a:ext cx="453852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И покатился по дороге — только Заяц его и видел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Катится Колобок, навстречу ему Волк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—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Колобок, Колобок, я тебя съем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—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Не ешь меня, Серый Волк, я теб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песенку спою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Я Колобок, Колобок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Я по коробу скребен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По сусеку метен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На сметане мешон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Да в масле пряжон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На окошке стужон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Я от дедушки ушел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Я от бабушки ушел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Я от зайца ушел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От тебя, волк, подавно уйду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И покатился по дороге — только Волк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его и видел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"/>
          <p:cNvPicPr/>
          <p:nvPr/>
        </p:nvPicPr>
        <p:blipFill>
          <a:blip r:embed="rId2"/>
          <a:stretch/>
        </p:blipFill>
        <p:spPr>
          <a:xfrm>
            <a:off x="4000680" y="428760"/>
            <a:ext cx="4762440" cy="612432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1"/>
          <p:cNvSpPr/>
          <p:nvPr/>
        </p:nvSpPr>
        <p:spPr>
          <a:xfrm>
            <a:off x="179280" y="470160"/>
            <a:ext cx="569592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Катится Колобок, навстречу ему Медведь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—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Колобок, Колобок, я тебя съем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—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Где тебе, косолапому, съесть меня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Я Колобок, Колобок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Я по коробу скребен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По сусеку метен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На сметане мешо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Да в масле пряжон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На окошке стужон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Я от дедушки ушел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Я от бабушки ушел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Я от зайца ушел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Я от волка ушел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От тебя, медведь, подавно уйду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И опять покатился — только Медведь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его и видел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600" y="213840"/>
            <a:ext cx="2251080" cy="62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22c02"/>
                </a:solidFill>
                <a:latin typeface="Times New Roman"/>
              </a:rPr>
              <a:t>Содержани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24000" y="980640"/>
            <a:ext cx="3008160" cy="44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Курочка Ряб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Колобок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Репк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2"/>
          <a:stretch/>
        </p:blipFill>
        <p:spPr>
          <a:xfrm>
            <a:off x="3749760" y="461880"/>
            <a:ext cx="4762440" cy="54770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"/>
          <p:cNvPicPr/>
          <p:nvPr/>
        </p:nvPicPr>
        <p:blipFill>
          <a:blip r:embed="rId2"/>
          <a:stretch/>
        </p:blipFill>
        <p:spPr>
          <a:xfrm>
            <a:off x="4143240" y="428760"/>
            <a:ext cx="4762800" cy="600048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1"/>
          <p:cNvSpPr/>
          <p:nvPr/>
        </p:nvSpPr>
        <p:spPr>
          <a:xfrm>
            <a:off x="-6120" y="402840"/>
            <a:ext cx="456660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Катится Колобок, навстречу ему Лиса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—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Колобок, Колобок, куда катишься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—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Качусь по дорожк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—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Колобок, Колобок, спой мне песенку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Колобок и запел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Я Колобок, Колобок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Я по коробу скребен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По сусеку метен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На сметане мешон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Да в масле пряжон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На окошке стужон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Я от дедушки ушел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Я от бабушки ушел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Я от зайца ушел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Я от волка ушел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От медведя ушел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От тебя, лисы, нехитро уйти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"/>
          <p:cNvPicPr/>
          <p:nvPr/>
        </p:nvPicPr>
        <p:blipFill>
          <a:blip r:embed="rId2"/>
          <a:stretch/>
        </p:blipFill>
        <p:spPr>
          <a:xfrm>
            <a:off x="4381560" y="357120"/>
            <a:ext cx="4762440" cy="6191280"/>
          </a:xfrm>
          <a:prstGeom prst="rect">
            <a:avLst/>
          </a:prstGeom>
          <a:ln w="0">
            <a:noFill/>
          </a:ln>
        </p:spPr>
      </p:pic>
      <p:sp>
        <p:nvSpPr>
          <p:cNvPr id="91" name="Прямоугольник 2"/>
          <p:cNvSpPr/>
          <p:nvPr/>
        </p:nvSpPr>
        <p:spPr>
          <a:xfrm>
            <a:off x="214200" y="428760"/>
            <a:ext cx="45720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А Лиса говорит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—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Ах, песенка хороша, да слышу я плохо. Колобок, Колобок, сядь ко мне на носок да спой еще разок, погромч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Колобок вскочил Лисе на нос и запел погромче ту же песенк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А Лиса опять ему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—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Колобок, Колобок, сядь ко мне на язычок да пропой в последний разок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Колобок прыг Лисе на язык, а Лиса его — гам! — и съел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3857760" y="5500440"/>
            <a:ext cx="5486400" cy="80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Конец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2" descr=""/>
          <p:cNvPicPr/>
          <p:nvPr/>
        </p:nvPicPr>
        <p:blipFill>
          <a:blip r:embed="rId2"/>
          <a:srcRect l="0" t="17108" r="0" b="17108"/>
          <a:stretch/>
        </p:blipFill>
        <p:spPr>
          <a:xfrm rot="758400">
            <a:off x="1792080" y="612360"/>
            <a:ext cx="5486400" cy="41148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371600" y="31428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54000"/>
          </a:bodyPr>
          <a:p>
            <a:pPr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80"/>
                </a:solidFill>
                <a:latin typeface="Times New Roman"/>
              </a:rPr>
              <a:t>Что за сказка: кошка, внучка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80"/>
                </a:solidFill>
                <a:latin typeface="Times New Roman"/>
              </a:rPr>
              <a:t>Мышь, ещё собака Жуч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80"/>
                </a:solidFill>
                <a:latin typeface="Times New Roman"/>
              </a:rPr>
              <a:t>Деду с бабой помогали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80"/>
                </a:solidFill>
                <a:latin typeface="Times New Roman"/>
              </a:rPr>
              <a:t>Корнеплоды собирали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                        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Репк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Русская народная сказк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2" descr=""/>
          <p:cNvPicPr/>
          <p:nvPr/>
        </p:nvPicPr>
        <p:blipFill>
          <a:blip r:embed="rId2"/>
          <a:srcRect l="0" t="20931" r="0" b="20931"/>
          <a:stretch/>
        </p:blipFill>
        <p:spPr>
          <a:xfrm rot="765000">
            <a:off x="1792080" y="612360"/>
            <a:ext cx="5486400" cy="41148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"/>
          <p:cNvPicPr/>
          <p:nvPr/>
        </p:nvPicPr>
        <p:blipFill>
          <a:blip r:embed="rId2"/>
          <a:stretch/>
        </p:blipFill>
        <p:spPr>
          <a:xfrm>
            <a:off x="0" y="260280"/>
            <a:ext cx="6227640" cy="6193080"/>
          </a:xfrm>
          <a:prstGeom prst="rect">
            <a:avLst/>
          </a:prstGeom>
          <a:ln w="0">
            <a:noFill/>
          </a:ln>
        </p:spPr>
      </p:pic>
      <p:sp>
        <p:nvSpPr>
          <p:cNvPr id="99" name="Прямоугольник 2"/>
          <p:cNvSpPr/>
          <p:nvPr/>
        </p:nvSpPr>
        <p:spPr>
          <a:xfrm>
            <a:off x="5940360" y="404640"/>
            <a:ext cx="320364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садил дед репку и говорит: «Расти, расти, репка, сладкá!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сти, расти, репка, крепкá!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ыросла репка сладкá, крепкá, большая-пребольша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"/>
          <p:cNvPicPr/>
          <p:nvPr/>
        </p:nvPicPr>
        <p:blipFill>
          <a:blip r:embed="rId2"/>
          <a:stretch/>
        </p:blipFill>
        <p:spPr>
          <a:xfrm>
            <a:off x="250920" y="404640"/>
            <a:ext cx="5400720" cy="6193080"/>
          </a:xfrm>
          <a:prstGeom prst="rect">
            <a:avLst/>
          </a:prstGeom>
          <a:ln w="0">
            <a:noFill/>
          </a:ln>
        </p:spPr>
      </p:pic>
      <p:sp>
        <p:nvSpPr>
          <p:cNvPr id="101" name="Прямоугольник 2"/>
          <p:cNvSpPr/>
          <p:nvPr/>
        </p:nvSpPr>
        <p:spPr>
          <a:xfrm>
            <a:off x="5724360" y="357120"/>
            <a:ext cx="32767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шел дед репку рвать: тянет-потянет,                       вытянуть не може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"/>
          <p:cNvPicPr/>
          <p:nvPr/>
        </p:nvPicPr>
        <p:blipFill>
          <a:blip r:embed="rId2"/>
          <a:stretch/>
        </p:blipFill>
        <p:spPr>
          <a:xfrm>
            <a:off x="285840" y="428760"/>
            <a:ext cx="5149800" cy="609588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1"/>
          <p:cNvSpPr/>
          <p:nvPr/>
        </p:nvSpPr>
        <p:spPr>
          <a:xfrm>
            <a:off x="5364000" y="1198440"/>
            <a:ext cx="3600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вал дед бабку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бка за дедку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дка за репку —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янут-потянут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тянуть не могут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"/>
          <p:cNvPicPr/>
          <p:nvPr/>
        </p:nvPicPr>
        <p:blipFill>
          <a:blip r:embed="rId2"/>
          <a:stretch/>
        </p:blipFill>
        <p:spPr>
          <a:xfrm>
            <a:off x="285840" y="428760"/>
            <a:ext cx="4933800" cy="608652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1"/>
          <p:cNvSpPr/>
          <p:nvPr/>
        </p:nvSpPr>
        <p:spPr>
          <a:xfrm>
            <a:off x="5222880" y="692640"/>
            <a:ext cx="35809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Позвала бабка внучку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Внучка за бабку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Бабка за дедку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Дедка за репку —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Тянут-потянут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вытянуть не могут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u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2" descr=""/>
          <p:cNvPicPr/>
          <p:nvPr/>
        </p:nvPicPr>
        <p:blipFill>
          <a:blip r:embed="rId2"/>
          <a:stretch/>
        </p:blipFill>
        <p:spPr>
          <a:xfrm>
            <a:off x="214200" y="500040"/>
            <a:ext cx="4762440" cy="608652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1"/>
          <p:cNvSpPr/>
          <p:nvPr/>
        </p:nvSpPr>
        <p:spPr>
          <a:xfrm>
            <a:off x="4890960" y="619560"/>
            <a:ext cx="425304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Позвала внучка Жучку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Жучка за внучку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Внучка за бабку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Бабка за дедку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Дедка за репку —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Тянут-потянут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вытянуть не могу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11280" y="549360"/>
            <a:ext cx="79214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Times New Roman"/>
              </a:rPr>
              <a:t>Да не смог разбить и дед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Times New Roman"/>
              </a:rPr>
              <a:t>Ведь ему сто лет в обед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0000ff"/>
                </a:solidFill>
                <a:latin typeface="Times New Roman"/>
              </a:rPr>
              <a:t>Баба била — не разбила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Times New Roman"/>
              </a:rPr>
              <a:t>Слабовата бабья сила 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Times New Roman"/>
              </a:rPr>
              <a:t>Кликнули они норушку -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Times New Roman"/>
              </a:rPr>
              <a:t>Та разбила, как игрушку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Times New Roman"/>
              </a:rPr>
              <a:t>И сбежала под крыльцо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Times New Roman"/>
              </a:rPr>
              <a:t>Что разбила-то? …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Times New Roman"/>
              </a:rPr>
              <a:t>                                      </a:t>
            </a:r>
            <a:r>
              <a:rPr b="0" lang="en-US" sz="3600" spc="-1" strike="noStrike">
                <a:solidFill>
                  <a:srgbClr val="022c02"/>
                </a:solidFill>
                <a:latin typeface="Times New Roman"/>
              </a:rPr>
              <a:t>(</a:t>
            </a:r>
            <a:r>
              <a:rPr b="0" lang="ru-RU" sz="3600" spc="-1" strike="noStrike">
                <a:solidFill>
                  <a:srgbClr val="022c02"/>
                </a:solidFill>
                <a:latin typeface="Times New Roman"/>
              </a:rPr>
              <a:t>Яйцо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"/>
          <p:cNvPicPr/>
          <p:nvPr/>
        </p:nvPicPr>
        <p:blipFill>
          <a:blip r:embed="rId2"/>
          <a:stretch/>
        </p:blipFill>
        <p:spPr>
          <a:xfrm>
            <a:off x="357120" y="285840"/>
            <a:ext cx="4762440" cy="6143400"/>
          </a:xfrm>
          <a:prstGeom prst="rect">
            <a:avLst/>
          </a:prstGeom>
          <a:ln w="0">
            <a:noFill/>
          </a:ln>
        </p:spPr>
      </p:pic>
      <p:sp>
        <p:nvSpPr>
          <p:cNvPr id="109" name="Rectangle 1"/>
          <p:cNvSpPr/>
          <p:nvPr/>
        </p:nvSpPr>
        <p:spPr>
          <a:xfrm>
            <a:off x="5219640" y="428760"/>
            <a:ext cx="367344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Позвала Жучка кошку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Кошка за Жучку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Жучка за внучку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Внучка за бабку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Бабка за дедку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Дедка за репку —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Тянут-потянут, вытянуть не могут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Rectangle 2"/>
          <p:cNvSpPr/>
          <p:nvPr/>
        </p:nvSpPr>
        <p:spPr>
          <a:xfrm>
            <a:off x="5148360" y="2995560"/>
            <a:ext cx="3779640" cy="28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Позвала кошка мышку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Мышка за кошку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Кошка за Жучку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Жучка за внучку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Внучка за бабку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Бабка за дедку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Дедка за репку —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Тянут-потянут —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и вытянули репку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Конец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Picture 2" descr=""/>
          <p:cNvPicPr/>
          <p:nvPr/>
        </p:nvPicPr>
        <p:blipFill>
          <a:blip r:embed="rId2"/>
          <a:srcRect l="0" t="20931" r="0" b="20931"/>
          <a:stretch/>
        </p:blipFill>
        <p:spPr>
          <a:xfrm>
            <a:off x="1928880" y="642960"/>
            <a:ext cx="5486400" cy="41148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86040" y="4785840"/>
            <a:ext cx="5486400" cy="567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Курочка Ряб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Жили-были дед и баба. И была у них курочка Ряба . Снесла курочка яичко. Не простое , а золото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2"/>
          <a:srcRect l="0" t="21245" r="0" b="21245"/>
          <a:stretch/>
        </p:blipFill>
        <p:spPr>
          <a:xfrm>
            <a:off x="1116000" y="189000"/>
            <a:ext cx="6710400" cy="47527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99680" y="274680"/>
            <a:ext cx="818676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Дед бил - бил , не разби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2" descr=""/>
          <p:cNvPicPr/>
          <p:nvPr/>
        </p:nvPicPr>
        <p:blipFill>
          <a:blip r:embed="rId2"/>
          <a:stretch/>
        </p:blipFill>
        <p:spPr>
          <a:xfrm>
            <a:off x="1258920" y="1214280"/>
            <a:ext cx="6337440" cy="52549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0040" y="213840"/>
            <a:ext cx="82152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Бабка била - била , не разбил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2" descr=""/>
          <p:cNvPicPr/>
          <p:nvPr/>
        </p:nvPicPr>
        <p:blipFill>
          <a:blip r:embed="rId2"/>
          <a:stretch/>
        </p:blipFill>
        <p:spPr>
          <a:xfrm>
            <a:off x="1332000" y="1052640"/>
            <a:ext cx="5976720" cy="55004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4000" y="333000"/>
            <a:ext cx="79722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Мышка побежала , хвостиком махнула , яичко упало и разбилось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2" descr=""/>
          <p:cNvPicPr/>
          <p:nvPr/>
        </p:nvPicPr>
        <p:blipFill>
          <a:blip r:embed="rId2"/>
          <a:stretch/>
        </p:blipFill>
        <p:spPr>
          <a:xfrm>
            <a:off x="2124000" y="1125360"/>
            <a:ext cx="4762440" cy="55771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Плачет дед , плачет бабка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3" descr=""/>
          <p:cNvPicPr/>
          <p:nvPr/>
        </p:nvPicPr>
        <p:blipFill>
          <a:blip r:embed="rId2"/>
          <a:stretch/>
        </p:blipFill>
        <p:spPr>
          <a:xfrm>
            <a:off x="4788000" y="1268280"/>
            <a:ext cx="3816360" cy="48578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4" descr=""/>
          <p:cNvPicPr/>
          <p:nvPr/>
        </p:nvPicPr>
        <p:blipFill>
          <a:blip r:embed="rId3"/>
          <a:stretch/>
        </p:blipFill>
        <p:spPr>
          <a:xfrm>
            <a:off x="504720" y="1268280"/>
            <a:ext cx="3691080" cy="48578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А курочка им говорит : «Не плач, дед , не плач бабка , я снесу вам другое яичко»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2" descr=""/>
          <p:cNvPicPr/>
          <p:nvPr/>
        </p:nvPicPr>
        <p:blipFill>
          <a:blip r:embed="rId2"/>
          <a:stretch/>
        </p:blipFill>
        <p:spPr>
          <a:xfrm>
            <a:off x="2050920" y="1341360"/>
            <a:ext cx="4762800" cy="51436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1T15:50:40Z</dcterms:created>
  <dc:creator>Друг</dc:creator>
  <dc:description/>
  <dc:language>en-US</dc:language>
  <cp:lastModifiedBy>SamLab.ws</cp:lastModifiedBy>
  <dcterms:modified xsi:type="dcterms:W3CDTF">2020-04-08T07:55:25Z</dcterms:modified>
  <cp:revision>33</cp:revision>
  <dc:subject/>
  <dc:title>Любимые сказки</dc:title>
</cp:coreProperties>
</file>