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7397-96C0-4488-A08B-FB5ABF6840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55C9-A6FA-451C-806B-8C05560C9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E77D-CD36-4BCB-BA66-EF6567578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970E-7019-4F1C-9CAA-486CB3B07B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DB7F-A250-4729-ABF4-634FF1661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D0B6-D62A-47D6-AF08-9BD71BE04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9E43-A42B-4767-9DFD-2243C2F8D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BBA-99B4-48BF-96A9-223DC6CC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42B7-A888-42A5-9586-2F075DBD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5067-3A14-4BCC-9F93-ACF2CCB29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543-A8ED-454F-972D-97B0FFD4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2C7-B100-4A1E-B8A1-149EA597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90FA-8754-45DF-844B-56251015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9A7-23E5-423A-BED8-BAEAFDD8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029-C245-4B94-91D6-FFAE4766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524-0F33-428D-AB26-DCD2F35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D57-068B-4A3B-AA23-47189CEF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DE1-6BEB-454C-978D-C300BF49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689-8AA3-411A-97CD-92F6D3A5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11A9-637E-4228-8294-F0A6605702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имые сказки для детей первой младшей групп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 rot="683400">
            <a:off x="2975040" y="2253960"/>
            <a:ext cx="4468680" cy="423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 золотое , а просто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000160" y="781200"/>
            <a:ext cx="4762440" cy="581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rcRect l="0" t="21245" r="0" b="21245"/>
          <a:stretch/>
        </p:blipFill>
        <p:spPr>
          <a:xfrm rot="850200">
            <a:off x="1992240" y="8240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371240" y="1628280"/>
            <a:ext cx="6945480" cy="372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тарелочке лежал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ак остыл и убежа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стретил он зверей в лесу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 беду свою — лис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Ей попался на зуб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Круглый, вкусный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                                     </a:t>
            </a: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(Колобо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14360" y="5143680"/>
            <a:ext cx="5135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оло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28920" y="571500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усская народная сказ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rcRect l="0" t="20475" r="0" b="20475"/>
          <a:stretch/>
        </p:blipFill>
        <p:spPr>
          <a:xfrm rot="673200">
            <a:off x="2192400" y="488520"/>
            <a:ext cx="5486400" cy="471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4140360" y="692280"/>
            <a:ext cx="4762440" cy="547668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3"/>
          <p:cNvSpPr/>
          <p:nvPr/>
        </p:nvSpPr>
        <p:spPr>
          <a:xfrm>
            <a:off x="0" y="26028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ли-были старик со старух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т и говорит старик старухе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ди-ка, старуха, по коробу поскреби, по сусеку помети, не наскребешь ли муки на колоб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зяла старуха крылышко, по коробу поскребла, по сусеку помела и наскребла муки горсти д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4071960" y="1143000"/>
            <a:ext cx="4762440" cy="54291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0" y="21420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Замесила муку на сметане, состряпала колобок, изжарила в масле и на окошко студить положи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3714840" y="285840"/>
            <a:ext cx="4762440" cy="61243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0" y="21420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обок полежал, полежал, взял да и покатился — с окна на лавку, с лавки на пол, пó полу к двери, прыг через порог — да в сени, из сеней на крыльцо, с крыльца на двор, со двора за ворота, дальше и даль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4071960" y="214200"/>
            <a:ext cx="476244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0" y="661680"/>
            <a:ext cx="8858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ится Колобок по дорог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стреч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Заяц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бок, Колобок, я тебя съ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ешь меня, Заяц, я тебе песен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тебя, зайца, подавно уйд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катился по дороге — только Заяц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4000680" y="500040"/>
            <a:ext cx="4762440" cy="60483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"/>
          <p:cNvSpPr/>
          <p:nvPr/>
        </p:nvSpPr>
        <p:spPr>
          <a:xfrm>
            <a:off x="0" y="258480"/>
            <a:ext cx="4538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катился по дороге — только Заяц 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Вол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я тебя съе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ешь меня, Серый Волк, я т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сенку спою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волк, подавно уйд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покатился по дороге — только Вол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и видел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4000680" y="428760"/>
            <a:ext cx="4762440" cy="61243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"/>
          <p:cNvSpPr/>
          <p:nvPr/>
        </p:nvSpPr>
        <p:spPr>
          <a:xfrm>
            <a:off x="179280" y="470160"/>
            <a:ext cx="5695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Медвед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я тебя съе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де тебе, косолапому, съесть мен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волка ушел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медведь, подавно уйду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опять покатился — только Медвед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го и видел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225108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2c02"/>
                </a:solidFill>
                <a:latin typeface="Times New Roman"/>
              </a:rPr>
              <a:t>Содерж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008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Курочка Ря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Колоб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Реп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749760" y="461880"/>
            <a:ext cx="4762440" cy="5477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4143240" y="428760"/>
            <a:ext cx="4762800" cy="60004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-6120" y="402840"/>
            <a:ext cx="4566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тится Колобок, навстречу ему Лис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куда катишьс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чусь по дорож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, Колобок, спой мне песенку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лобок и запе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Колобок, Колобок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по коробу скреб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сусеку мете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сметане меш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 в масле пряжон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окошке стуж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дед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бабушки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зайц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Я от волка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медведя ушел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 тебя, лисы, нехитро уйт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4381560" y="357120"/>
            <a:ext cx="4762440" cy="61912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14200" y="4287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Лиса говор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х, песенка хороша, да слышу я плохо. Колобок, Колобок, сядь ко мне на носок да спой еще разок, погромч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 вскочил Лисе на нос и запел погромче ту же песен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 Лиса опять ем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, Колобок, сядь ко мне на язычок да пропой в последний раз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обок прыг Лисе на язык, а Лиса его — гам! — и съе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57760" y="5500440"/>
            <a:ext cx="548640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rcRect l="0" t="17108" r="0" b="17108"/>
          <a:stretch/>
        </p:blipFill>
        <p:spPr>
          <a:xfrm rot="758400">
            <a:off x="1792080" y="612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1600" y="31428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4000"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Что за сказка: кошка, внучка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Мышь, ещё собака Жуч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Деду с бабой помогали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Times New Roman"/>
              </a:rPr>
              <a:t>Корнеплоды собира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  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Реп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усская народная сказ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rcRect l="0" t="20931" r="0" b="20931"/>
          <a:stretch/>
        </p:blipFill>
        <p:spPr>
          <a:xfrm rot="765000">
            <a:off x="1792080" y="6123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260280"/>
            <a:ext cx="6227640" cy="61930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2"/>
          <p:cNvSpPr/>
          <p:nvPr/>
        </p:nvSpPr>
        <p:spPr>
          <a:xfrm>
            <a:off x="5940360" y="404640"/>
            <a:ext cx="3203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адил дед репку и говорит: «Расти, расти, репка, сладкá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ти, расти, репка, крепкá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осла репка сладкá, крепкá, большая-пребольша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5400720" cy="619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2"/>
          <p:cNvSpPr/>
          <p:nvPr/>
        </p:nvSpPr>
        <p:spPr>
          <a:xfrm>
            <a:off x="5724360" y="357120"/>
            <a:ext cx="32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шел дед репку рвать: тянет-потянет,                       вытянуть не мож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5149800" cy="6095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"/>
          <p:cNvSpPr/>
          <p:nvPr/>
        </p:nvSpPr>
        <p:spPr>
          <a:xfrm>
            <a:off x="5364000" y="1198440"/>
            <a:ext cx="36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ал дед баб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ка за дед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ка за репку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янут-потяну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януть не мог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285840" y="428760"/>
            <a:ext cx="4933800" cy="6086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5222880" y="692640"/>
            <a:ext cx="358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бабка внуч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тянуть не могу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14200" y="500040"/>
            <a:ext cx="4762440" cy="60865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4890960" y="619560"/>
            <a:ext cx="42530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внучка Жуч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тянуть не мог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54936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а не смог разбить и д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Ведь ему сто лет в обед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аба била — не разбил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Слабовата бабья сила 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Кликнули они норушку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Та разбила, как игруш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И сбежала под крыльц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Что разбила-то?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                                     </a:t>
            </a:r>
            <a:r>
              <a:rPr b="0" lang="en-US" sz="3600" spc="-1" strike="noStrike">
                <a:solidFill>
                  <a:srgbClr val="022c02"/>
                </a:solidFill>
                <a:latin typeface="Times New Roman"/>
              </a:rPr>
              <a:t>(</a:t>
            </a:r>
            <a:r>
              <a:rPr b="0" lang="ru-RU" sz="3600" spc="-1" strike="noStrike">
                <a:solidFill>
                  <a:srgbClr val="022c02"/>
                </a:solidFill>
                <a:latin typeface="Times New Roman"/>
              </a:rPr>
              <a:t>Яйцо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4762440" cy="61434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"/>
          <p:cNvSpPr/>
          <p:nvPr/>
        </p:nvSpPr>
        <p:spPr>
          <a:xfrm>
            <a:off x="5219640" y="428760"/>
            <a:ext cx="367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Жучка кош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шка за Ж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, вытянуть не могу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5148360" y="2995560"/>
            <a:ext cx="37796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звала кошка мыш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шка за кош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шка за Ж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Жучка за внуч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чка за баб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бка за дедк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дка за репку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Тянут-потянут —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и вытянули реп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е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rcRect l="0" t="20931" r="0" b="20931"/>
          <a:stretch/>
        </p:blipFill>
        <p:spPr>
          <a:xfrm>
            <a:off x="1928880" y="64296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86040" y="4785840"/>
            <a:ext cx="5486400" cy="56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Курочка Ря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Жили-были дед и баба. И была у них курочка Ряба . Снесла курочка яичко. Не простое , а золото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rcRect l="0" t="21245" r="0" b="21245"/>
          <a:stretch/>
        </p:blipFill>
        <p:spPr>
          <a:xfrm>
            <a:off x="1116000" y="189000"/>
            <a:ext cx="6710400" cy="4752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274680"/>
            <a:ext cx="81867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ед бил - бил , не разб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1258920" y="1214280"/>
            <a:ext cx="6337440" cy="525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152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абка била - била , не разб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5976720" cy="5500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9722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ышка побежала , хвостиком махнула , яичко упало и разбило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4762440" cy="5577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чет дед , плачет бабка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16360" cy="4857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504720" y="1268280"/>
            <a:ext cx="3691080" cy="4857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 курочка им говорит : «Не плач, дед , не плач бабка , я снесу вам другое яичко»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2050920" y="1341360"/>
            <a:ext cx="4762800" cy="514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15:50:40Z</dcterms:created>
  <dc:creator>Друг</dc:creator>
  <dc:description/>
  <dc:language>en-US</dc:language>
  <cp:lastModifiedBy>SamLab.ws</cp:lastModifiedBy>
  <dcterms:modified xsi:type="dcterms:W3CDTF">2020-04-08T07:55:25Z</dcterms:modified>
  <cp:revision>33</cp:revision>
  <dc:subject/>
  <dc:title>Любимые сказки</dc:title>
</cp:coreProperties>
</file>