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5558-ACED-4B41-B581-6F9C3498A1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A2A9-42D9-4D69-85B8-32B97C3EC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AD20-4546-470D-906F-A3FDB56B1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9BA2-2841-438B-B381-99E73D071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DA6E-350B-4E2D-A463-BBE435F07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A601-A789-425B-9FD4-932FF05015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7E9F-FED7-4507-AA28-523F673FB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770D-9EBB-499D-9F65-9F93339F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E258-040A-44FE-BF4D-2836FA35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59C3-F0E1-4E4C-A339-396F1B3D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CD54-3013-407F-A82B-24DCEC16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AD32-AE8E-49DA-9532-3CCEACC5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EAED-C085-4F20-990C-AD8A4B8B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DF46-B43E-4B20-AF0B-FE47FBF1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CD89-5400-4F98-B53C-1D777CAC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5694-5EC6-4876-9CB3-5DBA5632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D179-C5AC-46FB-9EFB-EBABCBBC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C5CB-DB19-483B-9F3D-EDD2C925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6253-AAB1-47ED-AA6D-849FB0E6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2523-7478-481A-8387-C7094B407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имые сказки для детей первой младшей групп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 rot="683400">
            <a:off x="2975040" y="2253960"/>
            <a:ext cx="4468680" cy="423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Не золотое , а просто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2000160" y="781200"/>
            <a:ext cx="4762440" cy="5816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оне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rcRect l="0" t="21245" r="0" b="21245"/>
          <a:stretch/>
        </p:blipFill>
        <p:spPr>
          <a:xfrm rot="850200">
            <a:off x="1992240" y="82404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371240" y="1628280"/>
            <a:ext cx="6945480" cy="372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 тарелочке лежал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ак остыл и убежа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стретил он зверей в лесу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 беду свою — лис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Ей попался на зуб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руглый, вкусный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                                     </a:t>
            </a: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(Колобо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14360" y="5143680"/>
            <a:ext cx="5135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олоб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28920" y="57150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усская народная сказ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rcRect l="0" t="20475" r="0" b="20475"/>
          <a:stretch/>
        </p:blipFill>
        <p:spPr>
          <a:xfrm rot="673200">
            <a:off x="2192400" y="488520"/>
            <a:ext cx="5486400" cy="471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4140360" y="692280"/>
            <a:ext cx="4762440" cy="547668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0" y="26028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ли-были старик со старух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т и говорит старик старух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ди-ка, старуха, по коробу поскреби, по сусеку помети, не наскребешь ли муки на колоб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зяла старуха крылышко, по коробу поскребла, по сусеку помела и наскребла муки горсти дв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4071960" y="1143000"/>
            <a:ext cx="4762440" cy="54291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0" y="21420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месила муку на сметане, состряпала колобок, изжарила в масле и на окошко студить положи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3714840" y="285840"/>
            <a:ext cx="4762440" cy="61243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0" y="21420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обок полежал, полежал, взял да и покатился — с окна на лавку, с лавки на пол, пó полу к двери, прыг через порог — да в сени, из сеней на крыльцо, с крыльца на двор, со двора за ворота, дальше и дальш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4071960" y="214200"/>
            <a:ext cx="4762440" cy="59436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0" y="661680"/>
            <a:ext cx="8858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ится Колобок по дорог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стреч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 Заяц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бок, Колобок, я тебя съе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ешь меня, Заяц, я тебе песенк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ю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Колобок, Колобо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 коробу скребе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усеку мете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метане меш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в масле пряжо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кошке стужо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от дедушки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от бабушки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тебя, зайца, подавно уйду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катился по дороге — только Заяц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и видел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4000680" y="500040"/>
            <a:ext cx="4762440" cy="60483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"/>
          <p:cNvSpPr/>
          <p:nvPr/>
        </p:nvSpPr>
        <p:spPr>
          <a:xfrm>
            <a:off x="0" y="258480"/>
            <a:ext cx="45385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покатился по дороге — только Заяц его и видел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тится Колобок, навстречу ему Вол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обок, Колобок, я тебя съе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ешь меня, Серый Волк, я теб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сенку спою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Колобок, Колобо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по коробу скребе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сусеку мете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сметане меш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 в масле пряжо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окошке стужо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дедушки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бабушки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зайца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 тебя, волк, подавно уйду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покатился по дороге — только Вол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его и видел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4000680" y="428760"/>
            <a:ext cx="4762440" cy="61243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"/>
          <p:cNvSpPr/>
          <p:nvPr/>
        </p:nvSpPr>
        <p:spPr>
          <a:xfrm>
            <a:off x="179280" y="470160"/>
            <a:ext cx="5695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тится Колобок, навстречу ему Медвед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обок, Колобок, я тебя съ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де тебе, косолапому, съесть меня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Колобок, Колобок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по коробу скребен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сусеку метен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сметане меш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 в масле пряжон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окошке стуж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дедушки уше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бабушки уше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зайца уше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волка уше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 тебя, медведь, подавно уйду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опять покатился — только Медвед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его и видел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213840"/>
            <a:ext cx="225108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2c02"/>
                </a:solidFill>
                <a:latin typeface="Times New Roman"/>
              </a:rPr>
              <a:t>Содерж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300816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Курочка Ряб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Колоб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Реп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749760" y="461880"/>
            <a:ext cx="4762440" cy="547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4143240" y="428760"/>
            <a:ext cx="4762800" cy="6000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"/>
          <p:cNvSpPr/>
          <p:nvPr/>
        </p:nvSpPr>
        <p:spPr>
          <a:xfrm>
            <a:off x="-6120" y="402840"/>
            <a:ext cx="45666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тится Колобок, навстречу ему Лис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обок, Колобок, куда катишьс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чусь по дорож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обок, Колобок, спой мне песенку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обок и запе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Колобок, Колобо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по коробу скребе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сусеку мете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сметане меш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 в масле пряжо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окошке стужо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дедушки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бабушки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зайца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волка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 медведя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 тебя, лисы, нехитро уйт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4381560" y="357120"/>
            <a:ext cx="4762440" cy="61912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214200" y="42876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Лиса говори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х, песенка хороша, да слышу я плохо. Колобок, Колобок, сядь ко мне на носок да спой еще разок, погромч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лобок вскочил Лисе на нос и запел погромче ту же песен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Лиса опять ем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лобок, Колобок, сядь ко мне на язычок да пропой в последний раз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лобок прыг Лисе на язык, а Лиса его — гам! — и съ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57760" y="550044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не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rcRect l="0" t="17108" r="0" b="17108"/>
          <a:stretch/>
        </p:blipFill>
        <p:spPr>
          <a:xfrm rot="758400">
            <a:off x="1792080" y="6123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71600" y="31428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4000"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Что за сказка: кошка, внучка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Мышь, ещё собака Жуч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Деду с бабой помогали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Корнеплоды собирал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Реп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усская народная сказ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2"/>
          <a:srcRect l="0" t="20931" r="0" b="20931"/>
          <a:stretch/>
        </p:blipFill>
        <p:spPr>
          <a:xfrm rot="765000">
            <a:off x="1792080" y="6123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0" y="260280"/>
            <a:ext cx="6227640" cy="61930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2"/>
          <p:cNvSpPr/>
          <p:nvPr/>
        </p:nvSpPr>
        <p:spPr>
          <a:xfrm>
            <a:off x="5940360" y="404640"/>
            <a:ext cx="3203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адил дед репку и говорит: «Расти, расти, репка, сладкá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ти, расти, репка, крепкá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осла репка сладкá, крепкá, большая-пребольш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5400720" cy="61930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5724360" y="357120"/>
            <a:ext cx="327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шел дед репку рвать: тянет-потянет,                       вытянуть не мож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285840" y="428760"/>
            <a:ext cx="5149800" cy="60958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"/>
          <p:cNvSpPr/>
          <p:nvPr/>
        </p:nvSpPr>
        <p:spPr>
          <a:xfrm>
            <a:off x="5364000" y="1198440"/>
            <a:ext cx="360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ал дед баб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ка за дедк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ка за репку 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нут-потяну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тянуть не могу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285840" y="428760"/>
            <a:ext cx="4933800" cy="60865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5222880" y="692640"/>
            <a:ext cx="358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звала бабка внуч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учка за бабк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бка за дедк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дка за репку 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янут-потяну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тянуть не могу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14200" y="500040"/>
            <a:ext cx="4762440" cy="60865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"/>
          <p:cNvSpPr/>
          <p:nvPr/>
        </p:nvSpPr>
        <p:spPr>
          <a:xfrm>
            <a:off x="4890960" y="619560"/>
            <a:ext cx="4253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звала внучка Жуч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Жучка за внуч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учка за баб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бка за дед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дка за репку 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янут-потяну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тянуть не мог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1280" y="549360"/>
            <a:ext cx="792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Да не смог разбить и де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Ведь ему сто лет в обе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Баба била — не разбил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Слабовата бабья сила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Кликнули они норушку 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Та разбила, как игруш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И сбежала под крыльц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Что разбила-то?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                                     </a:t>
            </a:r>
            <a:r>
              <a:rPr b="0" lang="en-US" sz="3600" spc="-1" strike="noStrike">
                <a:solidFill>
                  <a:srgbClr val="022c02"/>
                </a:solidFill>
                <a:latin typeface="Times New Roman"/>
              </a:rPr>
              <a:t>(</a:t>
            </a:r>
            <a:r>
              <a:rPr b="0" lang="ru-RU" sz="3600" spc="-1" strike="noStrike">
                <a:solidFill>
                  <a:srgbClr val="022c02"/>
                </a:solidFill>
                <a:latin typeface="Times New Roman"/>
              </a:rPr>
              <a:t>Яйцо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357120" y="285840"/>
            <a:ext cx="4762440" cy="6143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"/>
          <p:cNvSpPr/>
          <p:nvPr/>
        </p:nvSpPr>
        <p:spPr>
          <a:xfrm>
            <a:off x="5219640" y="428760"/>
            <a:ext cx="3673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звала Жучка кош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шка за Жуч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Жучка за внуч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учка за баб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бка за дед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дка за репку 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Тянут-потянут, вытянуть не могу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5148360" y="2995560"/>
            <a:ext cx="377964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звала кошка мыш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Мышка за кош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шка за Жуч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Жучка за внуч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учка за баб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бка за дед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дка за репку 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Тянут-потянут 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вытянули репк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не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rcRect l="0" t="20931" r="0" b="20931"/>
          <a:stretch/>
        </p:blipFill>
        <p:spPr>
          <a:xfrm>
            <a:off x="1928880" y="6429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86040" y="4785840"/>
            <a:ext cx="54864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урочка Ря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Жили-были дед и баба. И была у них курочка Ряба . Снесла курочка яичко. Не простое , а золот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rcRect l="0" t="21245" r="0" b="21245"/>
          <a:stretch/>
        </p:blipFill>
        <p:spPr>
          <a:xfrm>
            <a:off x="1116000" y="189000"/>
            <a:ext cx="6710400" cy="475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9680" y="274680"/>
            <a:ext cx="81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д бил - бил , не разби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1258920" y="1214280"/>
            <a:ext cx="6337440" cy="525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152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абка била - била , не разби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1332000" y="1052640"/>
            <a:ext cx="5976720" cy="5500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9722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ышка побежала , хвостиком махнула , яичко упало и разбило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2124000" y="1125360"/>
            <a:ext cx="4762440" cy="5577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лачет дед , плачет бабка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816360" cy="4857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504720" y="1268280"/>
            <a:ext cx="3691080" cy="4857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 курочка им говорит : «Не плач, дед , не плач бабка , я снесу вам другое яичко»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2050920" y="1341360"/>
            <a:ext cx="4762800" cy="5143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15:50:40Z</dcterms:created>
  <dc:creator>Друг</dc:creator>
  <dc:description/>
  <dc:language>en-US</dc:language>
  <cp:lastModifiedBy>SamLab.ws</cp:lastModifiedBy>
  <dcterms:modified xsi:type="dcterms:W3CDTF">2020-04-08T07:55:25Z</dcterms:modified>
  <cp:revision>33</cp:revision>
  <dc:subject/>
  <dc:title>Любимые сказки</dc:title>
</cp:coreProperties>
</file>